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DCF89-BD7C-42B6-8C6D-C05F97FFF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8A168-698C-48DB-BB51-763ACBDD7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479E2-B3A1-4AED-93D8-8F80283F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4C61E-3986-4CC9-8F46-D944DA7E7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D668F-9C98-428A-B3BB-6D344348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1B56-54A0-4FAC-AD42-84383D627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D7ED-6560-449E-B4F1-E6DA61B5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341B-AA6C-4B5E-8FD7-135C018A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E75A-273F-40EF-BDA7-7736025DE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A425C-8CA3-4F5F-B6E3-D0280BDD5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96C3-F6CB-4B24-B7E7-6BD745537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0319-DD3D-49E3-B34E-1B8D02914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91E6-4656-4BC2-B30A-7363AFF3E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two major difficulties in occupational mortality stud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me occupations may be of necessity recruited from men of supernormal physical condition” </a:t>
            </a:r>
            <a:r>
              <a:rPr b="1" lang="en-US" sz="2400" spc="-1" strike="noStrike">
                <a:solidFill>
                  <a:srgbClr val="000000"/>
                </a:solidFill>
                <a:latin typeface="Arial"/>
              </a:rPr>
              <a:t>(selection into the workplace or cohor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ccupations require a “considerable standard of muscular strength and vigor to be maintained” </a:t>
            </a:r>
            <a:r>
              <a:rPr b="1" lang="en-US" sz="2400" spc="-1" strike="noStrike">
                <a:solidFill>
                  <a:srgbClr val="000000"/>
                </a:solidFill>
                <a:latin typeface="Arial"/>
              </a:rPr>
              <a:t>(survivor effect, or selection out of the workplace or cohor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0"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may accept workers with social problems, unhealthy habits, or health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survivor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dustries will not hire such worke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s to healthy hire effect bi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actors affecting hiring pract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mployment 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 of pre-employment health ex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other social “safety net” progr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quirements of the job</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lection into subgroups of job tasks or exposures within the cohort is based on health status of the worker at time of hire, then internal comparisons may be biased (“internal healthy hire effect b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a:t>
            </a:r>
            <a:endParaRPr b="0" lang="en-US" sz="4000" spc="-1" strike="noStrike">
              <a:solidFill>
                <a:srgbClr val="000000"/>
              </a:solidFill>
              <a:latin typeface="Arial"/>
            </a:endParaRPr>
          </a:p>
        </p:txBody>
      </p:sp>
      <p:sp>
        <p:nvSpPr>
          <p:cNvPr id="62" name="PlaceHolder 2"/>
          <p:cNvSpPr>
            <a:spLocks noGrp="1"/>
          </p:cNvSpPr>
          <p:nvPr>
            <p:ph/>
          </p:nvPr>
        </p:nvSpPr>
        <p:spPr>
          <a:xfrm>
            <a:off x="152280" y="1600200"/>
            <a:ext cx="87631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healthy worker effect biases may vary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ethni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la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t h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employ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follow-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ccup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ortality/morbid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64" name="PlaceHolder 2"/>
          <p:cNvSpPr>
            <a:spLocks noGrp="1"/>
          </p:cNvSpPr>
          <p:nvPr>
            <p:ph/>
          </p:nvPr>
        </p:nvSpPr>
        <p:spPr>
          <a:xfrm>
            <a:off x="304560" y="1752480"/>
            <a:ext cx="88390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bias) on effect measures is most striking for: </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bid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monary function, respiratory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behavioral symptom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place injuries</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ity measure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uses of death combi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malignant</a:t>
            </a:r>
            <a:r>
              <a:rPr b="0" lang="en-US" sz="2000" spc="-1" strike="noStrike">
                <a:solidFill>
                  <a:srgbClr val="000000"/>
                </a:solidFill>
                <a:latin typeface="Arial"/>
              </a:rPr>
              <a:t> chronic conditions (e.g., heart diseas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is less striking for cancer endpoints</a:t>
            </a:r>
            <a:endParaRPr b="0" lang="en-US" sz="28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Hire Effect</a:t>
            </a:r>
            <a:endParaRPr b="0" lang="en-US" sz="3200" spc="-1" strike="noStrike">
              <a:solidFill>
                <a:srgbClr val="000000"/>
              </a:solidFill>
              <a:latin typeface="Arial"/>
            </a:endParaRPr>
          </a:p>
        </p:txBody>
      </p:sp>
      <p:graphicFrame>
        <p:nvGraphicFramePr>
          <p:cNvPr id="66" name=""/>
          <p:cNvGraphicFramePr/>
          <p:nvPr/>
        </p:nvGraphicFramePr>
        <p:xfrm>
          <a:off x="76320" y="2057400"/>
          <a:ext cx="8915400" cy="4722840"/>
        </p:xfrm>
        <a:graphic>
          <a:graphicData uri="http://schemas.openxmlformats.org/drawingml/2006/table">
            <a:tbl>
              <a:tblPr/>
              <a:tblGrid>
                <a:gridCol w="2166840"/>
                <a:gridCol w="1122480"/>
                <a:gridCol w="1206360"/>
                <a:gridCol w="1523880"/>
                <a:gridCol w="1603440"/>
                <a:gridCol w="1292400"/>
              </a:tblGrid>
              <a:tr h="82548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Mortality Ratio (SMR) by cause of death and length of time (years) since entering the industr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erio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disea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ospective Cohort Study of polyvinyl chloride manufacturing workers, 1940-1974:</a:t>
            </a:r>
            <a:br>
              <a:rPr sz="3200"/>
            </a:br>
            <a:r>
              <a:rPr b="1" lang="en-US" sz="3200" spc="-1" strike="noStrike" u="sng">
                <a:solidFill>
                  <a:srgbClr val="000000"/>
                </a:solidFill>
                <a:uFillTx/>
                <a:latin typeface="Arial"/>
              </a:rPr>
              <a:t>Healthy Survivor Effect</a:t>
            </a:r>
            <a:endParaRPr b="0" lang="en-US" sz="3200" spc="-1" strike="noStrike">
              <a:solidFill>
                <a:srgbClr val="000000"/>
              </a:solidFill>
              <a:latin typeface="Arial"/>
            </a:endParaRPr>
          </a:p>
        </p:txBody>
      </p:sp>
      <p:graphicFrame>
        <p:nvGraphicFramePr>
          <p:cNvPr id="68" name=""/>
          <p:cNvGraphicFramePr/>
          <p:nvPr/>
        </p:nvGraphicFramePr>
        <p:xfrm>
          <a:off x="304920" y="1981080"/>
          <a:ext cx="8381880" cy="4660920"/>
        </p:xfrm>
        <a:graphic>
          <a:graphicData uri="http://schemas.openxmlformats.org/drawingml/2006/table">
            <a:tbl>
              <a:tblPr/>
              <a:tblGrid>
                <a:gridCol w="1690560"/>
                <a:gridCol w="1287360"/>
                <a:gridCol w="1136880"/>
                <a:gridCol w="914400"/>
                <a:gridCol w="1218960"/>
                <a:gridCol w="1219320"/>
                <a:gridCol w="914400"/>
              </a:tblGrid>
              <a:tr h="825480">
                <a:tc grid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nd “past” (i.e., terminated employment &lt;15 yrs from time of hire) employees alive 15 years after time of hi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of de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employe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d  Expected  SM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nc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 canc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iratory dise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ath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8.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Impact on measures of effect</a:t>
            </a:r>
            <a:endParaRPr b="0" lang="en-US" sz="4000" spc="-1" strike="noStrike">
              <a:solidFill>
                <a:srgbClr val="000000"/>
              </a:solidFill>
              <a:latin typeface="Arial"/>
            </a:endParaRPr>
          </a:p>
        </p:txBody>
      </p:sp>
      <p:sp>
        <p:nvSpPr>
          <p:cNvPr id="70" name="PlaceHolder 2"/>
          <p:cNvSpPr>
            <a:spLocks noGrp="1"/>
          </p:cNvSpPr>
          <p:nvPr>
            <p:ph/>
          </p:nvPr>
        </p:nvSpPr>
        <p:spPr>
          <a:xfrm>
            <a:off x="304920" y="1828800"/>
            <a:ext cx="8610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HWE bias greater for nonmalignant morbidity/mort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usually accompany these condi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ptomatic individual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be hi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remain actively employ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either leave the workplace or transfer to a job with lower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Healthy Hire Effect B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comparisons internal to the cohor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e disease rates among different exposure categories within the cohor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minimize this bias becaus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hort members passed through similar hiring proces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the distribution of confounders (e.g., smoking status) within the cohort are much smaller than differences between the cohort and the general (source) population</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combining all causes of mortalit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ing Time-Since-Hire Effect Bi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comparisons alone cannot solve the probl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ify by time-since-hi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e.g., high vs low cumulative exposure) among those with short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cumulative exposure groups among those with longer time since hir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y by age (currrent or at hire) and work status (active/inactive) instead of time-since-hi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04920"/>
            <a:ext cx="8686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izing Healthy Worker Effect Bias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609480" y="11430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izing Healthy Survivor Effect Bia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ifficult of the healthy worker effect biases to minimiz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internal comparisons and stratifying by time-since-hire are not sufficient to minimize this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make comparisons among those who are similarly affected by the healthy survivor effect bi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001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trict analysis</a:t>
            </a:r>
            <a:r>
              <a:rPr b="0" lang="en-US" sz="3200" spc="-1" strike="noStrike">
                <a:solidFill>
                  <a:srgbClr val="000000"/>
                </a:solidFill>
                <a:latin typeface="Arial"/>
              </a:rPr>
              <a:t> to those who survive and are followed up for at least 10-15 years since time of h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sadvantages</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tatistical power due to smaller numbers after restric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healthy survivor effect is minimal after 10-15 years, but there is no evidence that this is the cas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r>
              <a:rPr b="0" lang="en-US" sz="4000" spc="-1" strike="noStrike">
                <a:solidFill>
                  <a:srgbClr val="000000"/>
                </a:solidFill>
                <a:latin typeface="Arial"/>
              </a:rPr>
              <a:t>William Ogle, 1885</a:t>
            </a:r>
            <a:endParaRPr b="0" lang="en-US" sz="4000" spc="-1" strike="noStrike">
              <a:solidFill>
                <a:srgbClr val="000000"/>
              </a:solidFill>
              <a:latin typeface="Arial"/>
            </a:endParaRPr>
          </a:p>
        </p:txBody>
      </p:sp>
      <p:sp>
        <p:nvSpPr>
          <p:cNvPr id="4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gle recognized that the bias from these two difficulties was in the same direction: </a:t>
            </a:r>
            <a:r>
              <a:rPr b="1" lang="en-US" sz="3200" spc="-1" strike="noStrike">
                <a:solidFill>
                  <a:srgbClr val="000000"/>
                </a:solidFill>
                <a:latin typeface="Arial"/>
              </a:rPr>
              <a:t>bias away from the null and towards lower than expected mortality and morbidity rat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192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active” group has heterogeneous disease risks, since the “inactive” worker may b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elsewher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ily unemployed or involuntarily unemployed</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data to distinguish those who are “off-work” from those who are employed elsewhe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are unavailable, stratify by current age (a proxy for retired vs other “inacti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y by time since transfer to deal with workers who transferred for health reasons</a:t>
            </a:r>
            <a:endParaRPr b="0" lang="en-US" sz="20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0" y="1447560"/>
            <a:ext cx="87631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ify by employment status</a:t>
            </a:r>
            <a:r>
              <a:rPr b="0" lang="en-US" sz="2800" spc="-1" strike="noStrike">
                <a:solidFill>
                  <a:srgbClr val="000000"/>
                </a:solidFill>
                <a:latin typeface="Arial"/>
              </a:rPr>
              <a:t>: active vs ina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advantag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oss-sectional studies</a:t>
            </a:r>
            <a:r>
              <a:rPr b="0" lang="en-US" sz="2000" spc="-1" strike="noStrike">
                <a:solidFill>
                  <a:srgbClr val="000000"/>
                </a:solidFill>
                <a:latin typeface="Arial"/>
              </a:rPr>
              <a:t> only include active workers, and there is no data on the health status of inactive worker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prevalence data into incidence data:</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lf-reported year of first onset of symptoms to determine yearly incidence rate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incidence rates among the exposure groups for each year prior to the cross-sectional surve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incidence rates one to two years prior to the survey dat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transforming prevalence data into incidence data by using self-reported year of onset to determine yearly incidence rates: persistent pain from repetitive motion among garment workers</a:t>
            </a:r>
            <a:endParaRPr b="0" lang="en-US" sz="2400" spc="-1" strike="noStrike">
              <a:solidFill>
                <a:srgbClr val="000000"/>
              </a:solidFill>
              <a:latin typeface="Arial"/>
            </a:endParaRPr>
          </a:p>
        </p:txBody>
      </p:sp>
      <p:pic>
        <p:nvPicPr>
          <p:cNvPr id="84" name="" descr=""/>
          <p:cNvPicPr/>
          <p:nvPr/>
        </p:nvPicPr>
        <p:blipFill>
          <a:blip r:embed="rId1"/>
          <a:stretch/>
        </p:blipFill>
        <p:spPr>
          <a:xfrm>
            <a:off x="1523880" y="1676520"/>
            <a:ext cx="5410440" cy="49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304560" y="1447920"/>
            <a:ext cx="883908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g exposures:</a:t>
            </a:r>
            <a:r>
              <a:rPr b="0" lang="en-US" sz="2800" spc="-1" strike="noStrike">
                <a:solidFill>
                  <a:srgbClr val="000000"/>
                </a:solidFill>
                <a:latin typeface="Arial"/>
              </a:rPr>
              <a:t> ignores recent expos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tivation</a:t>
            </a:r>
            <a:r>
              <a:rPr b="0" lang="en-US" sz="2400" spc="-1" strike="noStrike">
                <a:solidFill>
                  <a:srgbClr val="000000"/>
                </a:solidFill>
                <a:latin typeface="Arial"/>
              </a:rPr>
              <a:t>: Since only the healthier workers survived on the job to receive recent exposures, ignore the recent exposures to eliminate the relationship between exposure and job surviva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procedure as assuming a </a:t>
            </a:r>
            <a:r>
              <a:rPr b="1" lang="en-US" sz="2400" spc="-1" strike="noStrike">
                <a:solidFill>
                  <a:srgbClr val="000000"/>
                </a:solidFill>
                <a:latin typeface="Arial"/>
              </a:rPr>
              <a:t>latency period</a:t>
            </a:r>
            <a:r>
              <a:rPr b="0" lang="en-US" sz="2400" spc="-1" strike="noStrike">
                <a:solidFill>
                  <a:srgbClr val="000000"/>
                </a:solidFill>
                <a:latin typeface="Arial"/>
              </a:rPr>
              <a:t> for a disease, except that the motivation for defining a latency period has to do with the exposure-disease process, not the exposure-job survival relationshi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9250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sible strategies to Minimize Healthy Survivor Effect Bia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g expos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the period in which the healthy survivor bias operates is shorter than the exposure lag time (or latency peri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ime “off work” is equivalent to time “on work” at zero exposure</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 results indicate that this  approach works as well or better than stratifying on employment status in dealing with bias due to termination of employment for health reas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y Worker Effect (HWE)</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vasive problem in occupational mortality and morbidity studi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underestimates of, (or may totally obliterate), exposure-disease association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distortion of dose-response relationships</a:t>
            </a:r>
            <a:endParaRPr b="0" lang="en-US" sz="28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 for minimizing HWE bias: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xposure-disease comparisons among those  similarly affected by the bia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Hire Effec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election of healthy individuals at time of hire so that their disease risks differ from the disease risks in the source (general) population</a:t>
            </a:r>
            <a:endParaRPr b="0" lang="en-US" sz="28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 is dependent upon passing a pre-employment medical examin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selection of individual (able to apply for the job)</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occurs when comparing disease rates between the worker cohort and the general populatio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is greatest during the initial period of follow-up and diminishes to some extent over tim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as</a:t>
            </a:r>
            <a:r>
              <a:rPr b="0" lang="en-US" sz="2400" spc="-1" strike="noStrike">
                <a:solidFill>
                  <a:srgbClr val="000000"/>
                </a:solidFill>
                <a:latin typeface="Arial"/>
              </a:rPr>
              <a:t>: lower than expected mortality/morbidity rates</a:t>
            </a:r>
            <a:endParaRPr b="0" lang="en-US" sz="24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Since-Hire Effec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 in health with time (e.g., &gt;15 years) since hire (the effect of the initial selection in the hiring process wears off over time)</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occurs because lower cumulative exposure categories include more recent hires than higher cumulative exposure categori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ime-since-hire is correlated with increasing cumulative exposure</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umulative exposure categories appear to be associated with higher disease risks even when no exposure-disease relationship exists</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is away from null leading to an overestimate of the health effect at higher cumulative exposure levels</a:t>
            </a:r>
            <a:endParaRPr b="0" lang="en-US" sz="20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152280" y="1143000"/>
            <a:ext cx="86868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y Survivor Effec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inuing selection process in the workpla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al of healthier individuals in the active workforce (a selective retention of healthy workers in the workfor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ut of unhealthy (symptomatic) workers from workforce (health-related job mobility or terminati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employ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to jobs with lower exposure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of Healthy Worker Effec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152280" y="914400"/>
            <a:ext cx="8686800" cy="5486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viewed as a confounder:</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or transfer to a less exposed job) is related to future exposure</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ng employment is an independent risk factor for disease</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cial effects to health of continued employment:</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access to health car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standard of living</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exercise</a:t>
            </a:r>
            <a:endParaRPr b="0" lang="en-US" sz="1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disease screening at workplace</a:t>
            </a:r>
            <a:endParaRPr b="0" lang="en-US" sz="1800" spc="-1" strike="noStrike">
              <a:solidFill>
                <a:srgbClr val="000000"/>
              </a:solidFill>
              <a:latin typeface="Arial"/>
            </a:endParaRPr>
          </a:p>
          <a:p>
            <a:pPr lvl="4" marL="203652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transfer may be related to health and exposure status</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realize exposure is causing health problems and transfer to lower/no exposure jobs </a:t>
            </a:r>
            <a:endParaRPr b="0" lang="en-US" sz="18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endParaRPr b="0" lang="en-US" sz="3600" spc="-1" strike="noStrike">
              <a:solidFill>
                <a:srgbClr val="000000"/>
              </a:solidFill>
              <a:latin typeface="Arial"/>
            </a:endParaRPr>
          </a:p>
        </p:txBody>
      </p:sp>
      <p:sp>
        <p:nvSpPr>
          <p:cNvPr id="56" name="PlaceHolder 2"/>
          <p:cNvSpPr>
            <a:spLocks noGrp="1"/>
          </p:cNvSpPr>
          <p:nvPr>
            <p:ph/>
          </p:nvPr>
        </p:nvSpPr>
        <p:spPr>
          <a:xfrm>
            <a:off x="152280" y="1142640"/>
            <a:ext cx="876312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viewed as a selection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 a </a:t>
            </a:r>
            <a:r>
              <a:rPr b="1" lang="en-US" sz="2000" spc="-1" strike="noStrike">
                <a:solidFill>
                  <a:srgbClr val="000000"/>
                </a:solidFill>
                <a:latin typeface="Arial"/>
              </a:rPr>
              <a:t>cross-sectional study</a:t>
            </a:r>
            <a:r>
              <a:rPr b="0" lang="en-US" sz="2000" spc="-1" strike="noStrike">
                <a:solidFill>
                  <a:srgbClr val="000000"/>
                </a:solidFill>
                <a:latin typeface="Arial"/>
              </a:rPr>
              <a:t> of a cohor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includes only workers remaining in the workplace (“active workers”) – a survivor (healthier) popul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healthy workers leave (i.e., are selected out of) the workplace prior to the study and are therefore not included in the study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effects of exposure are underestimated</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n</a:t>
            </a:r>
            <a:r>
              <a:rPr b="1" lang="en-US" sz="2000" spc="-1" strike="noStrike">
                <a:solidFill>
                  <a:srgbClr val="000000"/>
                </a:solidFill>
                <a:latin typeface="Arial"/>
              </a:rPr>
              <a:t> longitudinal</a:t>
            </a:r>
            <a:r>
              <a:rPr b="0" lang="en-US" sz="2000" spc="-1" strike="noStrike">
                <a:solidFill>
                  <a:srgbClr val="000000"/>
                </a:solidFill>
                <a:latin typeface="Arial"/>
              </a:rPr>
              <a:t> (prospective/retrospective) </a:t>
            </a:r>
            <a:r>
              <a:rPr b="1" lang="en-US" sz="2000" spc="-1" strike="noStrike">
                <a:solidFill>
                  <a:srgbClr val="000000"/>
                </a:solidFill>
                <a:latin typeface="Arial"/>
              </a:rPr>
              <a:t>cohort study</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ier workers remain in the workplace and therefore generally have higher cumulative exposures than less healthy workers who leave the workplace or transfer to less exposed job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increasing cumulative exposure are underestimated</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ias is not due to a loss to follow-up, since those who leave work are not usually lost to follow-u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rces of Healthy Worker Effect</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51920" y="1066320"/>
            <a:ext cx="84582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Survivor Effect Bia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lower than expected disease r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is no exposure-disease relationship, (and even after stratifying by time-since-hire), higher cumulative exposure appears protective of health:</a:t>
            </a:r>
            <a:endParaRPr b="0" lang="en-US" sz="24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with longer employment history will, on average, have higher cumulative exposures than workers with shorter employment history, </a:t>
            </a:r>
            <a:r>
              <a:rPr b="1" lang="en-US" sz="1800" spc="-1" strike="noStrike" u="sng">
                <a:solidFill>
                  <a:srgbClr val="000000"/>
                </a:solidFill>
                <a:uFillTx/>
                <a:latin typeface="Arial"/>
              </a:rPr>
              <a:t>and</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orkers with shorter employment history tend to be less healthy due to the healthy survivor effect, higher cumulative exposures can appear to have a protective effect </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17:03:58Z</dcterms:created>
  <dc:creator>Frank Bove</dc:creator>
  <dc:description/>
  <dc:language>en-US</dc:language>
  <cp:lastModifiedBy>dkleinb</cp:lastModifiedBy>
  <dcterms:modified xsi:type="dcterms:W3CDTF">2003-12-01T23:04:45Z</dcterms:modified>
  <cp:revision>17</cp:revision>
  <dc:subject/>
  <dc:title>Healthy Worker Eff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0454587</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